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36F-A40D-4206-A476-2B45EA38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AF7-007D-4265-A3AF-158C6C4C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9323B-80DA-45C7-88B6-930A6256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E35B8-3E6E-4B96-8DB6-68E8AAFE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784A5-BDE3-4325-BEC3-48C598C2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BCE93-3D96-4C9F-8A6B-8C699315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95E92-2A8D-4FE9-96E3-698C0A80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CFCD6-0FCD-484D-B27D-EC8EDCF8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5CF4C-F60D-4793-A883-ACB965A1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BC046-7181-4F7D-8A7D-D65FF164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B464C-B5F0-402D-A48E-1EA922A8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DCA4D-1214-4DE6-8877-D2D0961B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D14-3364-42A9-A048-FCB08B74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FC01D-A84B-4340-AF62-04A2B54A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16EEB-D4F4-4A8B-A93E-CD6221F6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1A47E-2545-42EC-954D-B7ADB369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91EC1-453E-4C98-BFC9-766B20AE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0276E-3B4D-40AE-AC9B-45549D65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20F9A-E78B-4573-8B5D-4964E4F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2D0CE-41FB-4F6D-A144-921F2BE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691DF-CEA5-4323-B88A-48193C67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299D7-1979-43C3-893B-C3F7AAA3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81543-839D-4611-8AA6-2E1EFE43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621-3DB1-449A-92E3-DA3AE96F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5D500-D256-4659-A998-BC19A8BF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3FE61-0B2F-4715-9A2B-DFC43002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F6B2E-156E-4737-8846-C80432A2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2F5B2-0B38-4C85-8707-BC7D6013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95E6F-E901-4B37-9D64-FD7113AE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CFBE5-B7F9-404C-A04B-3286D7DE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BEBD4-ECC3-4E4E-B2C8-99B9038C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1D3A9-2C78-48DC-89F2-CFC2AA89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FF065-E112-4C39-BEC1-368BF15E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E257C-2C9A-43B9-B387-7C2ECB1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2A2D-EC61-462F-9062-FA119140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ABA59-F707-411C-AF9C-B08C6F87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3CE04-3A9C-4134-A3E2-D415207A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E8084-885A-40A4-8CE1-8BC6384A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A7D85-A25F-4190-B817-E4E32119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4194F-F230-4D71-866F-4F1D39CE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6C56B-8771-4562-BCEE-825406CE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BE47E-2C6A-4F71-AE67-E7A2E4AD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66248-E441-4F70-A206-2C0CE2F9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69BF4-A6CE-40DA-AF54-58E9E805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66C83-D742-49C9-9645-7750E27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CF3C-E996-4872-AF24-3CAC1A67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94510-521E-49D2-8847-810C4862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49A1E-ED7D-4316-B3CA-6E80FA99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1259F-3803-43ED-8E87-7DD30B32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58AA7-5447-491E-A446-F0104F16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2025D-91B5-4D0F-832B-2F0DA9E2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41DB2-BB9F-46F6-A435-EB615490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38939-F551-435F-ABCF-633B1318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CF438-6292-4BFE-9349-637629F3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AE517-BB48-4188-8AA1-203B3D93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C3D25-FD36-4978-9669-BC6DF675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818F-6558-4389-B4E6-EADA2E53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B7DF3-4822-447C-BC62-B5879339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1D943-3FE7-48E5-AD4C-231FB956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D59F7-9642-4DDB-849A-D46D6B92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98DB5-9911-4B77-A47B-021A4731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08D54-0378-4BC2-8BD2-75E32088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45DF8-5E50-4896-99D9-06913857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DFA15-E93E-424D-96C4-90CFA177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E50B6-AE2E-4299-BAD5-65CE514E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87CFD-4D5D-41FC-AEC3-4DA1EB0B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1725E-1005-4255-807A-BBA325E6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8047-4371-4262-969D-84D21243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E8C4F-E481-4CBE-AE07-4C54647F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152958-E926-4874-9475-9F562F2A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61D00-538C-4D34-8A1C-1CE7A536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5708C-D55D-4EDF-B4DC-F9773F83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4A203-59A2-487A-B471-61EC2A1C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6CA91-013B-4205-827C-2558F691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E1881-6A5A-4AF0-9A7F-55A10BC6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6506A-54AA-42AB-8593-6FAE4FF0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F3DEC-8CC9-4B69-B82E-2C61C2AE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DDD1C-19ED-48D2-A39A-A471B39C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E6F5-E8EC-467A-8435-1FAF5506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250D3B-EEE0-4559-9BF5-B0852963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B5088-11CC-40E8-B0C7-4C3962D1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63AB8-1D16-490C-A8BA-0EFC313B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4DC7E-DA2A-44B1-A6B3-DB662125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A5147-4ABD-4E57-8392-52F198D8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1E23D-2DC4-49F0-B0D8-26578039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37C91-9FE8-4AA8-B145-42CFC91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65214-AE0C-467A-BC67-BC4A6106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FBC10-1F7D-4370-8CF2-57C8EF27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935C6-1519-4ED2-A7B3-5A94BBF3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7009-C523-4D32-B9DD-F345F8D8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30282-B856-489A-A2D9-A76134B2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11BEA-C8F1-41BA-9252-E51D0FE3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8C2B8-3CC3-4B06-B116-45A08841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37EE2-17A9-42DA-AD44-766BA158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396C5-4FD5-44F0-BA90-31339CDF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5D9BF-DD94-42F4-9675-D8E5C536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9C4056-1146-4D28-A543-17D22D12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EE5BB-9F3D-456F-A12B-E010BD86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B479B-11E2-4DC0-9733-B832B5AD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45803-6C43-41CC-ACD2-6F2BEDC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B678-7ED8-4F26-BFF6-57C9AD48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899E3-8AD5-420D-9111-DCC0E7C3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FCE86-6328-48B5-A69C-391606CE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0C7AB-8AF2-46C9-8196-74C88850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0B1A4-3DC7-4230-8E72-D71EA6AD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4FD61-55CB-4CA8-B294-F8A7DBB4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83293-CF3A-4537-82DF-DE725CB5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5E437-CF7A-4F16-91B4-6BABBEDD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A79D1-9D65-45E0-83B0-5B0FDB92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93E576-D168-46BE-8BA6-E23FB2DB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F482B-2622-4FBA-BC03-D899F2A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944-3632-4772-A540-7D0CF270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D1C3-112A-4981-BEC7-DE13EDF0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320363-362E-4ECB-81FD-C5271709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7E1694-58A7-4BB0-8CF8-F2B83E86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D8239-26C5-49E4-BDA9-862E31FE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95522-4600-42B4-9411-D8EA1514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BAC16-7398-4FDC-8B86-CA732D57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A7ADC-834F-4E5B-96A8-F0D471B0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F3F896-D5E5-4E5F-890C-E3E44C12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79C4B-B01C-455D-92D6-45D332AD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C6E58-D748-4CC2-90D0-9143B80F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51711-3F9F-4016-8275-456720EC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6224-8047-468E-8758-9B2D210B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D0644E-0FE0-4500-914B-AB737DD8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EE099-AB46-49CE-93E1-811F0E1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DB66EB-6787-4767-A7CD-39AD547A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C5B16-F33F-4FBD-AE5A-AEBDFC52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674BE-EAE7-4863-8054-EAC6F397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3C3D9-BAA7-4572-95A5-8BC9BF2B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BC404-A3E5-45E9-AEB5-A1F11096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2A485-E69B-4654-A0F7-005ADC2F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EB82DB-5BF3-4E8C-80CC-494EAF35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C7E707-CDB4-49D6-951F-89B117A0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264F-A8C3-4F6D-86A1-FC3E5E94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64E95-1CCD-4715-8400-43826C27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63CCDB-FB0C-4F3F-86E5-7E823656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C84C99-9990-41ED-A5A3-7D152D2F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155EF-EB6E-4E38-8C1E-DE0E8E9B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E23BD5-4681-42DF-A82C-7F9FEE3B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B5DAD-E91A-4481-85D3-AAA9F60E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D73604-1DE9-444F-98F9-C4D8F2C8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D1A33-E34A-4798-B8DB-E7EA7CFE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35687F-BFDB-438E-8030-B8EC283F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2F7C4F-D0ED-47D4-A503-20D80F75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593A-0DEF-41A8-B49C-D445164B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D25D1-6110-49DA-AED8-705CB905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CCC370-91D1-4FE3-B577-412BE6E6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F0A82-E51A-4D04-B099-3F60BABF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DD90C2-A7FA-467E-9C3F-2BA42C0E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E4A7E0-A31F-4C50-A143-779465A1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995D0C-494D-4459-8B77-296165AD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F48DA9-8411-4E70-8AEA-895FC563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20F00-892E-4094-A4F6-9A10C6B4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9E8F0-5123-4156-9FCD-CC8D18D2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F11F46-3C49-44DA-B3E8-A3A83BF3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FA4F-3B9C-4CD8-9941-C7EEF44A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07568A-44B7-4C4E-8627-8A1C3A73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A5873-F7F6-42C9-9AFE-94DC2A86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6A4D9-45B2-4844-9D24-38CD8EAD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D40E25-1FF1-42B1-8A62-B4D79A66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110DE8-CF23-4973-BA76-0E823720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BDAE47-4AB2-44F3-B213-796FE4DD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4D6839-28D1-424C-9A7E-43C5C0AB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5D7D23-743F-42A4-B609-D4643096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36351-48BE-4A9B-9723-93AE60E5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BC5C5B-5A2E-40BF-ADA2-52E6E8A2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B33B5-7AAE-4502-B120-03D215AC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BC2597-155E-4ACB-B476-724C4860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12964-5FC7-4408-B62C-E8DD2B08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0387B-3042-42F8-ABF6-678C93C4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50CF-A7E9-4190-B0CF-90CA3DCD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F01F-4B1D-4479-8E02-1F3EA947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D7EB-8DF7-4524-9D7F-1D73E76A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0BBA-B86F-4781-85AF-B2628489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9B4-9D84-42D8-8C61-DB208BC9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8C3E-EF8D-44B7-8707-517A713C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4AC77-6E25-4E79-B5C6-312F3C10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8953-3249-4938-8A4D-AC9E88D6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C0FDB-538C-4ACA-A798-6ECA56AB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1DDC-0BCB-47AE-A431-6D3D6592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87D9-10C1-48D3-9690-A8462057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93043-F74D-467E-8AA7-3ABDE5EC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F46CF-97E5-4C80-8B07-9DC0F3E9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0961-AEAA-430F-A1CD-BEB5F139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4D7E-B1D9-4C33-8CBF-A6EDCA78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AFF-CE5A-4586-B9F6-03109727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50E72-1D61-47BA-831B-4C3A7422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30E69-8B48-4B2E-B2F9-E012C5DC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BAC1B-4914-48EC-BFD8-594ACF95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4F510-33BA-4177-BCD9-5781926A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ECEE-6E03-4907-80D8-B40ABB72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305A-6D03-4551-858A-F3C0F6F6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CD72-1501-42A8-B5BA-AF3EE579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EE0A-599A-4A56-B2EC-888C563A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EB420-A400-4E24-9AA4-9F701E36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7D83D-37CE-421D-BD6B-0B65FF68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39A-DF57-47CA-8EAD-660DE781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884A6-95F7-431D-AC53-BA14FBB6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127A3-DBAF-45CE-8719-FE5762CF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37AB7-8456-4123-97FF-F80223FC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8384-0810-4F8B-ACC9-EF939FA0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21FBF-F5E5-46EE-B69A-1BD590F3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1EDCC-12DD-4596-9C15-5CBD57C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3F0E3-BDB5-4FF7-9FD0-97917245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D5527-1503-4158-A508-263E64C5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E4EFA-0ACB-4BE9-BB42-7DE68CDA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3116-D31F-493D-BBD9-CE77A544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426-FC07-489E-AC93-8D28A99B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1951C-2403-4B08-A4FA-9418C09C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929E5-0C90-412C-B17E-3EE1CC44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75F58-9599-49D4-8E57-F31F802D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EEEC-EF50-428F-AA7B-10897FF2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9808B-67E0-40EB-8360-4E0FB272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0FD45-3C3B-450B-85D5-F1805F05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A3AE4-C6D6-4946-ACF8-C027FBB9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435E7-B1FC-4E32-89CA-0786A52E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17247-5D7F-4947-AA51-9EDC8F7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99746-088F-4F29-91EB-0C8C86B5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550-A211-4071-BFBB-7ABFAB6B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88A84-CAB0-4D15-B7C4-B0D5FFA6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63857-0965-46EF-8613-15F2DE6F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4930C-AFC9-4606-8789-39D04542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94BDD-5416-4CA7-8F81-0A5D2C09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FED91-4077-44B2-9C9E-00020533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C2A90-88BA-48A2-B1C7-38C93F0B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1BD48-6029-4648-B3F7-D8EC8685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E3078-7F59-481F-9866-B09DD5D7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8F983-428A-4996-B5AB-64B541CE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3C08F-741C-4381-AEEE-8DF4CAD2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45F-8FF1-4746-AD73-813C368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9B4DD-9394-4C09-8677-8763B621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D0352-C106-4F6C-B210-2EC8CF25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11516-C94A-4CF0-9801-22FE63F5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67AA5-ABCF-4F6B-88A3-D187401A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E436-75DF-4890-A4F2-776C15D6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DD7DB-F98A-4C78-82F0-69B35D6C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52AEC-D540-48B4-A51E-C3EAA449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6E40C-09D2-41FA-9062-FC33E231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AF125-295A-41B5-B94C-E67C3847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C9D0F-5104-48CC-B97A-047889D1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F1D-5083-4DD4-8CBD-2670352B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49A07-2C30-40BC-99FC-43CF301C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1F088-F358-4A53-95F9-641B0229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F794F-2E48-4E0F-8876-1C80B299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BD7C-D678-4982-BB56-349D4B59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25A9-2DB7-4BC6-8ABD-5922E095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570DE-234C-47FA-9CAC-53871648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30EE0-F241-41AF-9251-79C72617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5E74C-B207-441C-9424-D03F6907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F6E85-6759-4C96-93E0-56A7F9F0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ECB37-BFD3-4728-8AAA-7BC741A6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794A-F167-4EC5-B86C-CB3BD02CE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B4CC-B617-41AF-8FD5-AA7D7E393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AAEC-BCD6-46C8-9A10-DAD3F15533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DF6D-356F-47E7-81DD-7DE15E6930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2A32-17BD-4DC8-B2D8-1B0F76D7AC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ED30-2A81-4D62-9B9C-5884D71E33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3E5E-E753-428C-BCF4-710A6DD88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240E-F7DC-44CE-A3C8-C167F290E9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A916-8ECF-4BD9-8363-714672512D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04BC-6C5A-4903-8B23-9A4DF5C4AA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FC2E-1797-4282-B4FF-23D576E7BD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2580-BCA2-4A9C-BE49-577819D6F5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01E1-BDBA-4F77-9318-D041DC5DB0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B737-A602-422D-A80E-01FA700D24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BF84-99CD-4A83-9330-F48E9474C8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58BA-7DAE-40C8-9F3B-A1F22F6D2B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6DE7-4CE4-4853-B8CF-77F0D269B5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DEA0-231E-4D4A-8BAC-B56F0D476E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396F-DE4C-412A-9C09-A8045DB725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FAB2-D30C-42B3-8DB0-08A5352221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9D3E-975A-48AD-86EE-7E1813E2E5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86B7-6036-421D-9DB1-42CE60072D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1CC9-8DA3-40C1-96C9-DC36293F45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0582-1F45-4DC0-852E-E0CED92A22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8773-4BDA-478D-887E-4EDC21B100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54E8-AB21-4CAE-B469-BC36271B07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032A-9B25-4A27-AAE8-EA359C43BD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5AF1-86D9-4ABF-AF1C-CAB80DCB6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A75B-5FE6-483D-AA12-ECC97768EE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0DFB-E8FC-4DA7-B121-DFA18441A8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BD00-7005-41D3-B737-2D7267C5FD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7A8E-4638-4A0C-ADD3-9AA7E08255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23A9-D120-4A10-B1C8-3D9C8FC830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1F41-947F-48D3-B6F8-7C4930318F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0E74-90B9-42DA-AF09-D733F8B641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6315-43B5-409D-9C19-F4A5495264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09F0-D908-4A55-B292-3051884EEF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1A55-EE98-44DD-BA7E-E2B3FC8307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B6DB-5D5A-43BA-B62A-B432E8E791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1BCF-D453-4437-AAB9-DE86D24724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209680" y="3009960"/>
            <a:ext cx="4724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50920" y="1962000"/>
            <a:ext cx="8040600" cy="27291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71640" y="2421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971640" y="29098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971640" y="33433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971640" y="3803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971640" y="42498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18960" y="2595600"/>
            <a:ext cx="8504280" cy="16668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8015400" y="39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630072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4500720" y="39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1116000" y="3933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260280" y="2271600"/>
            <a:ext cx="8632800" cy="2186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914400" y="26938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900000" y="35877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971640" y="40528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71360" y="2362320"/>
            <a:ext cx="8801280" cy="2133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3059280" y="4091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4859280" y="40910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6588000" y="4149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8101080" y="4149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8:10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